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9F7-70CD-472B-8A6D-C6AC9B9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439-A89B-4583-A68E-FC5B6DE2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5C08-A4C9-4A50-B6D7-E224552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B9362-D056-4F23-971C-0165C12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24CA8-0A95-48D6-8B56-3D7A560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B097-43F4-4A0F-851C-C4D4666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7714-702F-4148-A8CD-DA4ED5A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B55FF-A31C-4EC4-A380-695848C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80C24-2D5D-4256-A3B8-DB0D285F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F8156-A021-41D8-A84D-8F67A491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D26F-474A-4D79-9C8E-A16D2362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107C-9C1F-4A8F-948A-DE7C6A76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465-F9B7-463B-8C46-150D89E9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C3E5-0BDA-4BA8-9019-F799D5C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1C2D4-196D-40FC-AB59-816433C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AC56A-7F70-4D4B-B532-498840AC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85F6-744D-4C20-9ACB-6F046045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58FC-F4D1-457C-B3CD-BAFF99F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6246-8DB1-40FF-ACD7-6242E1F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47D15-67DA-483A-9A15-5E6F847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B77D2-4A76-4835-B327-860D2A4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50502-0FC4-498D-BFBC-41CCE09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D0DBC-2837-4C74-A7D0-FDAA2D0D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E57-F039-442D-A3E6-9BDBECD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69E5F-D366-4737-88D1-DAAD418B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4BFA-7355-4967-9ECB-53A64C79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718B6-5CEF-48F4-9897-0E648E9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6EDE-F75A-40E4-9E7A-13CFE7F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F095-6843-4BB2-920D-8661F1DA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83B7C-2E0D-4FA3-93B4-4B7BE9C6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81232-FD64-4969-9FB0-944136B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D562-5F13-40FE-860F-7D4CCCC0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1ED9-4CED-4B27-B003-66ED4EC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F7524-80EC-44F9-8B10-626402D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E279-DA14-4FC7-B790-E52BAB01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6532-4DFF-49DE-BB6B-31A8F67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49BA-870A-43C3-92E0-12CE895B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D74E-CDDF-44D1-B5AD-AB24BDBC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C07E2-FB2D-4B50-B7F9-F814CC13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82D9B-E0B0-4CB5-AB1E-D12F73A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6629E-19BC-4BBA-89CE-CD3F0E5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4E7F9-9455-4C5F-8636-5DC2A34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0AF21-BE95-4A85-91BB-BEED4CD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00FDD-E371-49BC-A712-27728A1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063F-4A8A-41E0-BA27-C29B1838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6239-8B00-4D09-A5C0-B576648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3924B-3CF3-43C6-B251-057A963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DF39C-02F8-4861-9F58-7CD0619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5687-1FBC-43C4-B3C6-0DEC5F04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0D16E-32C3-4674-BF54-D58E940F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3877-B8BF-4D49-9B0A-4CE7FAC4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59188-509C-4998-AE5E-92F1AD63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7D42C-5490-4877-AAA2-7CBC0A14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C6D98-DE69-4C42-B8F3-DAC2D221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8212B-087A-43A7-AD34-1B575034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66490-7351-4EDA-8978-679DBDE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A05-3DFD-4F2D-AF98-7268A66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7A508-9C27-47A2-B2A1-9B8D7CC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B3798-FA85-417C-BD4F-6AC83BF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21B7C-5F85-4CFF-BB75-5E75A02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D0BE1-5092-4DB0-BD53-3706EFE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536C2-88A4-45EA-9670-E8384CE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D1222-09D8-44A6-87B3-2A16555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D207B-BB80-4D37-B280-15DA8D45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64A57-8454-472F-844D-95B5B956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B44EB-CC4A-40B0-B18C-D6E0797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C141C-B805-433B-8AF8-348EBFF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6B1-94C0-4A24-AFF1-CE26F3B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72010-47E4-4E6A-B109-14BDDD3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F60C5-5037-450E-9B08-0A4D7538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DF647-BC70-4BB1-84AB-356084EB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5F85F-2015-4380-B6CB-E1BDA3F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F7FD0-DD85-4135-8A71-991EE8E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6EE0F-66BC-42D6-AA17-CF690CA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852EF-9935-46F8-8098-8450CC2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F2DA2-8D1B-4F26-99A2-34AB7B03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A11F6-001C-4EB1-A45E-113D5FC3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B5D71-AC48-4A7A-B27A-8426749F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E08-EB28-45D2-B016-2723C68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326DF-EDFC-4390-B8BB-F84254B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EF93C-4030-4483-8D7F-ABC2ED2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13B2E-6D4C-42FB-A18D-08662EA9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12DC8-74D1-4A2B-AF5A-043A643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831E7-29C2-4F9D-9C19-62CB4D7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48730-EE37-4B66-B21D-F6F20BF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996C8-2278-4E15-AE62-D3DF0925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5D6DD-F611-4277-A973-7CE2989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5D34D-8B90-4B54-A768-5F6BB56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864D6-74C9-40B9-AEC3-1DD9863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AB51-5E16-4661-B990-E8A14251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25DF2-F6C0-4BE1-9F33-865238D7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948B3-788C-4F97-A68F-A848102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9A573-B7A8-4ED9-883E-2504CEB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74838-784F-4FEC-98F1-604F256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4611C-6203-431A-93A4-0F3BFE5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4AFED-DCF8-4B94-9BE7-C2476F9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E7F69-C4C3-4941-BA58-216535C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1CA89-7088-4245-9930-7412B68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A628F-23AE-40D3-9043-6BEB3D6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42923-3F2F-496D-ADAD-5978670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2E5-C15D-47D9-8D18-1294D34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FEF98-9348-48DF-B547-5FE02AD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0776A-F9DA-4F3E-83CE-87EF785D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7B118-5ECC-4E5F-877B-875C150B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6C699-D410-45F2-9E47-F6AA529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91686-8AAD-4D1D-B294-C5C7580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0FB43-592D-49D3-8EAF-3C8B10D6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D5E68-6B87-4751-8725-6FE0F14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E41E1-69EC-496B-9872-4EC3D47D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AD358-5B48-4BCE-9F69-3129E19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B35BD-ED5A-4147-AEF9-7B7C5C5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746-932A-4F8F-94F4-22D3B35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E89-9648-48AD-A833-2EE71D0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FC066-52C8-4116-A4EF-F225538A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EF306-1776-4757-B4CE-0E77180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1C0DB-544C-41C2-8584-2D7F80E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C7871-56A3-4AF7-BE3F-1D4BFECA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F0158-AB89-409B-ABC2-1686B720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758AA-E6D7-4DC5-8941-A8F47E0F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6BFE9-782A-4A91-905F-51D28396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C5EC6-1CE8-406B-8D31-D3B11FAE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F90C0-B250-488C-8FE2-F7E4A81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53B4B-FAB9-419F-ACC9-1558D4D4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14D-4142-4F7A-BC67-1252012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2EA68-CCF5-4603-A09A-366F22A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0E591-0B36-4A9C-B570-0AF2399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13CA5-DB57-4AB0-A29E-D396C015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4AA94-3965-4DDC-8074-463B34A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E2D56-F325-46D1-9816-3FE510C7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E6026-C1C9-4C53-A323-A36B3728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2AC19-F8D1-4D0A-BA5C-670E7C2E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A41A2-97EE-4FD3-A7A3-67C6DBEC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630AC-E81B-417B-8791-976617A2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30239-D5BE-4A65-992F-F5EF2860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36D5-A58D-412A-B133-72810D04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D61D5-9A52-4DA0-B22A-68DF9B5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29F5D-2FF9-4DBA-AFB4-1C361E6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809E3-6C6B-49F3-AE4C-0ACC9D27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08487-F730-41D6-97C0-778F899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EE7D2-94B8-4C53-AD5B-847E5DA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896EF-BB17-4126-B8D2-558F392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D01FA-A83A-4806-A157-F44EF5E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07353-B567-48B6-A0E4-9DA2DD06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44ADC-1486-4223-9F8F-397D983A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D0FED-2609-4932-90BF-7BAF689B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954-6F4B-4248-A9DD-DEFC5227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68937-1A7C-4DD2-B4A0-BBD868A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AB833-BDF0-4642-93F8-459049B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9B2CE-9606-49CC-9071-CEB7D40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CD351-26C1-42AB-841C-ACB275AF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62A30-9BF9-4B9C-93E1-46437F9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06957-481B-47B5-8D44-4F3F366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FB940-05AE-4097-AFC3-307DB18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6D89E-42DB-4AEE-A6A3-FAF731C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90570-9281-400A-863D-3C90FC4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F99D9-6AA6-4B8E-A5C1-B0941F22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D641-0212-45E1-B531-CC0279FB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36925-29C4-482F-9F13-DB0BABAA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1CC26-17C8-4404-B61D-99006AA5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68D674-EC9A-4F36-8CA4-B5159C2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3A9C5-5926-445B-910B-C7D7CEAC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2DA7E-A5EE-4478-806C-D279729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0E253-F3EC-4006-B67E-91F137CA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F5DC6-9965-4412-95E7-EDCBB3D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9FFB2-C28D-42B3-BA63-E742772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9FB8A-EAE5-451C-B915-8B71AB2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5D0C7-CAE7-46B1-B5B4-5606F30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B3A6-5777-4771-8835-6E04CBF0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DE8C3-407D-47E3-8949-BC644A1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F8A365-EFBF-4BE6-BC41-FD072B8E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7CFEB-1C33-469C-A695-FB7716CC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1DE1-420B-48DF-B2E9-5DEE92A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9FF0-F931-4359-9B17-31E56E9E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CCA7-7D11-4DD4-AC58-2F67579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03F7-58A7-4A73-910D-4FBB23DB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94E-1F11-44D0-9576-87458B5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7104-3B80-4B2F-A8D2-60AB94B6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B0CD-907C-42A1-B491-2DAC740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B492-6253-4362-9B1F-A3A48C6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F7FD-82A6-4399-8BD2-A9C5284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1D5D-92B5-4AAC-9134-A13ACDA2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2ECC-4F3A-4A69-AD1A-E0BB70D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5436-33DE-4CEC-9FE2-EC11B28D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7BEA-8DE6-4412-ACBC-A47840F2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FD66-9B63-4423-8CA5-C6BC197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DD90-6C27-44CD-B658-E852DB2B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257-1CC4-44BA-BF1A-C5F12DCB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25F5-FE5E-4B03-AC9C-58553E3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0A72-95BE-4CBF-B815-7C30DA57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045F-10BE-4267-8FDC-29B12EA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713A-3917-4486-AEC3-EF70007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77B9-FDCC-4482-A658-3D67DC8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4CC2-2CF4-4B8F-B2A3-227FFCBB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FB2D-ED9C-4466-BA2D-42AF63F8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E892-C92F-4188-81AF-B8E14B3B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27DF-E481-4A1C-9FF1-E0904850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2213-5DA5-4058-9D1A-95865DE0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389-744A-4BF6-8623-4292BE3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7DCE-5D6A-46B1-A4A3-739BF36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AE87-4049-4BDE-A6DD-F20A71CC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822A-CC6C-4FBE-A3FD-EC9B8A3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4435-E37F-4BFE-B92E-667645A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C134-8D14-4D0C-B05C-66C84749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905F2-17A6-44B6-A183-A0BB9CA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5CB7-433B-4975-886A-BF8C2883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5D864-2A97-44B8-A2C2-185594D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58A1-D8A2-4ECD-93C4-48422D3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681D-1200-4D18-BA22-20D7C359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D13-FD3D-41F4-A5A7-656DE247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DD459-901C-4CD3-87D4-27030DE6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73A5-3765-4D1A-B8F0-06C6B94D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FF7E7-0BD5-4C4F-A75C-0D4AAFD5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90E2-0F3B-4138-9FB8-EF33099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02C4-353F-49A4-AB76-00BA008F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50BA-8287-49C8-9CF9-818F171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E8C7-EDEF-4325-B81E-0EA7FF7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B856-9F07-4605-9086-15EEC19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5F02-4A36-4570-A0CD-44F1080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6B52-B408-4E45-A413-D29B8F3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474-AEA6-4BAB-80DA-B0DF4213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72CB-FBFD-4825-8C1E-5D6CFD29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D603-FCE2-46B9-8A71-EDC235AE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9F51-BCA3-4975-9AEF-F15D4B6A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F4C5-EDB1-4E1B-AA60-28D9F983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DBC3-1D35-48F7-B466-DDD236C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8491-3C61-45DA-9DF8-FBBB52D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B4A64-C3A0-49E6-8FE4-43D391A2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3F8B-BD3D-4A6B-AC96-A5C8FE3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ED042-77A1-4EAD-AC65-42DDA65C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76CB-BF94-4031-9AF4-4EA0D1F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1AA-DEE7-4114-98E3-C01EC67D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F1DC-7CE2-4EB6-BEB2-44D1DD7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EFA6-756F-4923-A168-2A75A10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49CD-F372-4CE3-880E-EEB2238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D01C5-3870-4E13-94CE-1AE9BEF1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D48B-838B-4E96-89E6-E2C7429B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D72BE-410B-4556-8C16-0CB26FF7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BE6C0-48A1-4B26-94C0-22E60C7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20EF-12B4-4186-BAEE-B0F80E0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E6CD2-7C98-43E9-8D37-F1F608C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08EF4-EEEF-4340-A3AB-92AEDBD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DDF-AB76-4593-9571-25986BF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6D05-8BDD-40A0-974B-02BB242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B5A80-D0A3-4673-A0BD-1465108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4803-F877-409A-A2DB-405A80D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9B9F-83FD-4D4C-94E9-D9884EF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EA1F9-58F0-4AEC-8F48-AEC425E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BD0EE-6137-4372-A4E9-66DFA51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91B1E-0255-479A-9EE8-C1216A63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1BB5F-B41F-48F5-8094-BEA6AE88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35A2-594B-4DF2-84BD-711607FD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C4944-8BAE-43F1-A6EB-BD6F5AA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0635-E743-4B0C-B453-711E78BA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17AD-9890-47F4-9545-1A946FE902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350-8A24-4ACC-98F6-2A542D6B8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FDE-270D-4B6D-8DE4-1E20EA059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EBFD-BB05-4304-9FE1-BEE0FC171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570-32E5-4019-AA98-CAFD0573C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6475-865F-4285-8A33-0133B0BA6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906-E0A6-4735-A393-9FA8DD8D6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90A6-2E20-4E00-A7FB-A933D7EA8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C2A-B55E-451F-B8FF-508F9324B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D21-F83C-4EDF-B977-B10794E22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E39-4001-49AA-B414-8A9B45572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1F74-84A2-4481-A48E-4696448AD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642-44D6-46D4-9FD8-EE97E9DBD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670-5C8F-457E-BE14-6A779D5B5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218-B589-4E6D-9B17-7C715AF18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F5F-E08C-4102-B835-876B90F2D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1D5-0F83-4845-B29B-CE84B8003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B43E-4271-47EB-8399-ACE79346C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EEBB-A2FE-4F9E-AF59-CCD5F311C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083-0967-4DF1-8F84-3A14A27F9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CB8-C299-4BCE-843E-B6D3605DF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54E-4B2D-4DA0-B279-8B42D4E00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ED7-4DE2-4FD3-978B-BAA48D206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73BD-B91D-439E-9DEB-FA55D6D92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A7C6-06BB-4A64-9CDB-062BBC04C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C30C-68AA-46BE-87CF-9368EAD6E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21D-00F7-431F-A0D9-57D24610E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B952-0250-4D9F-A970-E55B821C4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6B4-99AE-4004-AD12-8F89B39BB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D41-49FF-4BE3-BAEF-13BCD425F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AC3-BB42-4674-AE46-CCC8AB1BF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B070-026F-4703-9283-1882431B2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24C3-5BB2-42B7-8228-039441501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515C-9342-4042-A5FE-3DD64F6FE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3543-0138-4378-A0E0-EDBAA1F7F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96FC-1973-4F39-BC70-F7F3E8908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BA1C-3D72-45A4-A194-72D1A102D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FF5-475C-45B8-BF05-06DBF10CB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7933-4770-4C48-8A07-61E963D11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5840" y="3071880"/>
            <a:ext cx="8858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0576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3"/>
          <p:cNvSpPr/>
          <p:nvPr/>
        </p:nvSpPr>
        <p:spPr>
          <a:xfrm>
            <a:off x="85716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78588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90680" y="1138320"/>
            <a:ext cx="8162640" cy="45813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57160" y="1214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214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71600" y="2328840"/>
            <a:ext cx="8200800" cy="22003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85716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85640" y="1433520"/>
            <a:ext cx="8172720" cy="3990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214280" y="3000240"/>
            <a:ext cx="13575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3357720" y="357192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2500200" y="4500720"/>
            <a:ext cx="11430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8105760" cy="400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2"/>
          <a:stretch/>
        </p:blipFill>
        <p:spPr>
          <a:xfrm>
            <a:off x="785880" y="2571840"/>
            <a:ext cx="5505480" cy="1457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357960" y="2428920"/>
            <a:ext cx="2523960" cy="22575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4"/>
          <p:cNvSpPr/>
          <p:nvPr/>
        </p:nvSpPr>
        <p:spPr>
          <a:xfrm>
            <a:off x="4286160" y="192888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1500120" y="35719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5400720" cy="457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6049800" y="739800"/>
            <a:ext cx="943200" cy="380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368280" y="1222200"/>
            <a:ext cx="8182080" cy="56358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4"/>
          <p:cNvSpPr/>
          <p:nvPr/>
        </p:nvSpPr>
        <p:spPr>
          <a:xfrm>
            <a:off x="928800" y="21430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207180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2357280" y="307188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3500280" y="3071880"/>
            <a:ext cx="142884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3071880" y="450072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4357800" y="450072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3857760" y="5929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6643800" y="5929200"/>
            <a:ext cx="10713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523800" y="733320"/>
            <a:ext cx="8096400" cy="53913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4357800" y="4143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7072200" y="464328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7500960" y="514368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61880" y="1409760"/>
            <a:ext cx="8220240" cy="403848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7286760" y="135720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1154160" y="2320920"/>
            <a:ext cx="1203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1214280" y="28576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1143000" y="3357720"/>
            <a:ext cx="100008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1000080" y="3857760"/>
            <a:ext cx="1500120" cy="39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2000160" y="435780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6786720" y="4357800"/>
            <a:ext cx="142848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